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94763-8A18-4A9C-AE50-BCE545A8E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D732-8E90-4BF5-9B4B-64AFF0473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BCC85-D907-4187-9DAF-B291EB180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7E797-E8A3-44F7-A2B2-BB8628747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1DB4B-EC5A-4926-9D1E-88AD06875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A5CBB-2E52-4A0B-B051-2BF4EFE58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95497-D391-4938-A7DF-410CBE5D4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71DCE-FD03-4BF1-8AA5-21DB0FDE6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1BBD3-63D1-4F50-AF9E-5CDC1F5EC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DFD36-4646-479C-B462-63875A09F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1D4E9-1C19-4E39-B8ED-D22641039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11499-66CD-4731-9877-62C026D8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03462-7055-4929-B626-E6A81B726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20C05-0760-4E77-8E20-AF8B4AE93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E76F1-8B2B-491A-9078-99453475F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88ADD-23C2-4389-A582-9B58BA1B0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D9713-F562-424F-9E1B-A961E8FE7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67CE-522F-4200-8CC5-5DA3E3CB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DC685-3FEA-485E-B661-79E3E47C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915D-BC0D-4A65-B149-D6DBB488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A0F55-393E-4910-94FD-0A9F553A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9DBE-AD67-412A-B2E3-6BF94E5B0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D086-9918-4FFF-94A5-06999D64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89FD-3DE1-4564-B00F-DC2E7D6A0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2060-160A-4A6E-A932-82BF12142E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4108-2021-4D76-926F-1ACB644B89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UNITATEA ŞI DIVERSITATEA LUMII VII</a:t>
            </a:r>
            <a:endParaRPr b="0" lang="en-US" sz="1400" spc="-1" strike="noStrike">
              <a:solidFill>
                <a:srgbClr val="ffff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lum contrast="-48000"/>
          </a:blip>
          <a:stretch/>
        </p:blipFill>
        <p:spPr>
          <a:xfrm>
            <a:off x="5638680" y="1752480"/>
            <a:ext cx="155916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17</cp:lastModifiedBy>
  <dcterms:modified xsi:type="dcterms:W3CDTF">2012-06-19T11:10:05Z</dcterms:modified>
  <cp:revision>34</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